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D3D-FD38-4390-AF55-C93A16C2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677-D1FD-4215-8C6A-2C5926D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CF2-30BF-4FBE-B547-66B715F9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6BE-7D27-4E5F-81CA-FDBD052B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CBF4-1940-428D-B5CB-90256D37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46EF-F5DD-4005-958E-CA9F6A1D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CFE4-5ABC-4738-83EF-654AC385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A5E4-2F52-4EAE-9EA3-99290D3D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CB29-B03C-4DC9-8FF9-5DCE77EB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CDF9-B474-4DCE-9153-52E64E39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3EB2-7C23-4879-997B-7323054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1FE-1C23-4275-9332-4A37B7E5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C771-1A3C-4643-B163-170EB66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3707-9A98-4D87-B0FD-C695407F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ED35-632C-4593-9149-639B65EE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394D-99B0-445D-AA44-F99EE024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5F16-CD14-4F86-A632-9117B5D8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959-653B-4CF1-8A67-81920963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F3C-AEEB-4394-BFB0-A94D8CCD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0DA-6C2B-4910-A998-9E6DE820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41B-0464-4149-AC96-0E0C7510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0A3-30D6-4E03-9C7F-63871BC8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B44-EAD2-4CF1-BB43-FA282DA3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3BC-C639-428D-8151-99131A3C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CA40-9471-4F11-A890-BCEC7C67A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4B89-E398-419B-B868-77F4D2557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42160" cy="6073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e8f4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514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Some animals are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camouflaged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to blend in with their surrou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is keeps them safe as it is more difficult for other animals to see them or catch them for fo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4176720" cy="28558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4932360" y="3789360"/>
            <a:ext cx="3995640" cy="2763720"/>
            <a:chOff x="4932360" y="3789360"/>
            <a:chExt cx="3995640" cy="276372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932360" y="3789360"/>
              <a:ext cx="3995640" cy="27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076720" y="3789360"/>
              <a:ext cx="352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lizards skin is so similar to the rock colou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68360" y="3789360"/>
            <a:ext cx="3456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mic Sans MS"/>
              </a:rPr>
              <a:t>These zebra could easily be mistaken      for bushes from           a dista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932360" y="620640"/>
            <a:ext cx="3995640" cy="2879640"/>
            <a:chOff x="4932360" y="620640"/>
            <a:chExt cx="3995640" cy="287964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4932360" y="620640"/>
              <a:ext cx="39956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03640" y="620640"/>
              <a:ext cx="36720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Comic Sans MS"/>
                </a:rPr>
                <a:t>This lion blends in well with the grassy background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788000" y="458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Aquatic animals have streamlined bodies to move more easliy in the wa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4464000" cy="295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219640" y="404640"/>
            <a:ext cx="3416400" cy="3945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44640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105160" y="260280"/>
            <a:ext cx="378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ese animals have adapted to live in the hot climate of the deser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8360" y="404640"/>
            <a:ext cx="4753080" cy="3121200"/>
            <a:chOff x="468360" y="404640"/>
            <a:chExt cx="4753080" cy="312120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68360" y="404640"/>
              <a:ext cx="47530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39640" y="476280"/>
              <a:ext cx="431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mels store water in their hump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51640" y="2203560"/>
            <a:ext cx="3097080" cy="5210280"/>
            <a:chOff x="5651640" y="2203560"/>
            <a:chExt cx="3097080" cy="5210280"/>
          </a:xfrm>
        </p:grpSpPr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5651640" y="2203560"/>
              <a:ext cx="3097080" cy="43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724360" y="5300640"/>
              <a:ext cx="280836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striches have long eyelashes to keep out the san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68360" y="3645000"/>
            <a:ext cx="4751280" cy="3351600"/>
            <a:chOff x="468360" y="3645000"/>
            <a:chExt cx="4751280" cy="335160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468360" y="3645000"/>
              <a:ext cx="4751280" cy="29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68360" y="5805360"/>
              <a:ext cx="439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nakes glide across the hot sands and can shed their sk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ese animals have adapted to be more suited to cold temperatu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427640" y="333360"/>
            <a:ext cx="4249800" cy="6308640"/>
            <a:chOff x="4427640" y="333360"/>
            <a:chExt cx="4249800" cy="630864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4427640" y="333360"/>
              <a:ext cx="4205160" cy="63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500720" y="404640"/>
              <a:ext cx="41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ayers of fat keep the seals body warm, and small ears stop heat los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4000" y="2060640"/>
            <a:ext cx="4032000" cy="2297160"/>
            <a:chOff x="324000" y="2060640"/>
            <a:chExt cx="4032000" cy="229716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395280" y="2060640"/>
              <a:ext cx="374508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24000" y="2133720"/>
              <a:ext cx="403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Polar bears are kept warm by their body fa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95280" y="4508640"/>
            <a:ext cx="3743280" cy="2039760"/>
            <a:chOff x="395280" y="4508640"/>
            <a:chExt cx="3743280" cy="203976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395280" y="4508640"/>
              <a:ext cx="3743280" cy="20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5280" y="5516640"/>
              <a:ext cx="1728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Deer have a warm layer of fu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Even plants have adapted to their habita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80000" y="476280"/>
            <a:ext cx="5040000" cy="3316320"/>
            <a:chOff x="3780000" y="476280"/>
            <a:chExt cx="5040000" cy="331632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780000" y="476280"/>
              <a:ext cx="5040000" cy="33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851280" y="2997360"/>
              <a:ext cx="4680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Comic Sans MS"/>
                </a:rPr>
                <a:t>The cactus has fleshy stems that store water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80000" y="3933720"/>
            <a:ext cx="5040000" cy="2736000"/>
            <a:chOff x="3780000" y="3933720"/>
            <a:chExt cx="5040000" cy="273600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3780000" y="3933720"/>
              <a:ext cx="5040000" cy="27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780000" y="5661000"/>
              <a:ext cx="4968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The water provides support for this lily as it has less developed roots to hold it in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79280" y="1700280"/>
            <a:ext cx="3529080" cy="4916520"/>
            <a:chOff x="179280" y="1700280"/>
            <a:chExt cx="3529080" cy="4916520"/>
          </a:xfrm>
        </p:grpSpPr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50920" y="1700280"/>
              <a:ext cx="3240000" cy="21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468360" y="4869000"/>
              <a:ext cx="273528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79280" y="3933720"/>
              <a:ext cx="352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242492"/>
                  </a:solidFill>
                  <a:latin typeface="Comic Sans MS"/>
                </a:rPr>
                <a:t>Dandelions seeds are easily dispers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201600" y="0"/>
            <a:ext cx="934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42492"/>
                </a:solidFill>
                <a:latin typeface="Comic Sans MS"/>
              </a:rPr>
              <a:t>Animals and plants help each other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8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Plants and animals depend on each other for a wide variety of th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87640" y="4365720"/>
            <a:ext cx="3097080" cy="2214360"/>
            <a:chOff x="2987640" y="4365720"/>
            <a:chExt cx="3097080" cy="221436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2987640" y="4365720"/>
              <a:ext cx="309708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059280" y="443700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987640" y="2205000"/>
            <a:ext cx="3097080" cy="2044080"/>
            <a:chOff x="2987640" y="2205000"/>
            <a:chExt cx="3097080" cy="204408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tretch/>
          </p:blipFill>
          <p:spPr>
            <a:xfrm>
              <a:off x="2987640" y="2205000"/>
              <a:ext cx="309708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987640" y="378936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ests to reprodu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24000" y="2349360"/>
            <a:ext cx="2447640" cy="4105440"/>
            <a:chOff x="324000" y="2349360"/>
            <a:chExt cx="2447640" cy="410544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324000" y="2349360"/>
              <a:ext cx="2447640" cy="41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95280" y="595008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hel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372360" y="1052640"/>
            <a:ext cx="2447640" cy="3528720"/>
            <a:chOff x="6372360" y="1052640"/>
            <a:chExt cx="2447640" cy="352872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6372360" y="1052640"/>
              <a:ext cx="244764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443640" y="11253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rot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72360" y="4797360"/>
            <a:ext cx="2771640" cy="1800360"/>
            <a:chOff x="6372360" y="4797360"/>
            <a:chExt cx="2771640" cy="180036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tretch/>
          </p:blipFill>
          <p:spPr>
            <a:xfrm>
              <a:off x="6372360" y="4797360"/>
              <a:ext cx="216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3640" y="6021360"/>
              <a:ext cx="27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Gas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7b9cb5"/>
                </a:solidFill>
                <a:latin typeface="Comic Sans MS"/>
              </a:rPr>
              <a:t>What is a habitat ?</a:t>
            </a:r>
            <a:endParaRPr b="0" lang="en-US" sz="66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habitat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is the place where living things li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It is more than just a home it includes the whole surrounding a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e habitat provides the animal or plant with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food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shelter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Comic Sans MS"/>
              </a:rPr>
              <a:t>People and their habitats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56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People can live all over the wor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311640" cy="2186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435640" y="4005360"/>
            <a:ext cx="3330360" cy="2187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24000" y="2708280"/>
            <a:ext cx="475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105520" y="4508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We can do this because we are able to build homes for different condi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487840" y="358776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4535280" cy="33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4537080" cy="224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292720" y="476280"/>
            <a:ext cx="3684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867280" y="765000"/>
            <a:ext cx="3129120" cy="424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260280"/>
            <a:ext cx="5759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Also we can change our clothes to best suit the temperature around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871720" cy="388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573408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92"/>
                </a:solidFill>
                <a:latin typeface="Comic Sans MS"/>
              </a:rPr>
              <a:t>White clothes reflect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53006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42492"/>
                </a:solidFill>
                <a:latin typeface="Comic Sans MS"/>
              </a:rPr>
              <a:t>Animal skin and fur act as insulators and keep heat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492360" y="1268280"/>
            <a:ext cx="2079720" cy="2881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276720" y="4351320"/>
            <a:ext cx="25192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42492"/>
                </a:solidFill>
                <a:latin typeface="Comic Sans MS"/>
              </a:rPr>
              <a:t>Animals and plants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Most plants and animals are specially adapted to survive in a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particular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habit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ey have developed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special features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 to suit the demands of their enviro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This is called </a:t>
            </a:r>
            <a:r>
              <a:rPr b="0" lang="en-GB" sz="2800" spc="-1" strike="noStrike">
                <a:solidFill>
                  <a:srgbClr val="8a8ad8"/>
                </a:solidFill>
                <a:latin typeface="Comic Sans MS"/>
              </a:rPr>
              <a:t>adaption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7b9cb5"/>
                </a:solidFill>
                <a:latin typeface="Comic Sans MS"/>
              </a:rPr>
              <a:t>Some examples of adaption</a:t>
            </a:r>
            <a:endParaRPr b="0" lang="en-US" sz="60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All birds have similar characteristi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242492"/>
                </a:solidFill>
                <a:latin typeface="Comic Sans MS"/>
              </a:rPr>
              <a:t>But many water birds have features that are different from those birds live on la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06920" y="476280"/>
            <a:ext cx="4933800" cy="2825640"/>
            <a:chOff x="4606920" y="476280"/>
            <a:chExt cx="4933800" cy="2825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4643280" y="476280"/>
              <a:ext cx="4249800" cy="28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606920" y="2708280"/>
              <a:ext cx="4933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Comic Sans MS"/>
                </a:rPr>
                <a:t>Long legs are good for wadin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427640" y="3645000"/>
            <a:ext cx="4537080" cy="2930400"/>
            <a:chOff x="4427640" y="3645000"/>
            <a:chExt cx="4537080" cy="293040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4427640" y="3645000"/>
              <a:ext cx="4464000" cy="29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427640" y="602136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These wings act as flipp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95280" y="4076640"/>
            <a:ext cx="3816360" cy="2505240"/>
            <a:chOff x="395280" y="4076640"/>
            <a:chExt cx="3816360" cy="2505240"/>
          </a:xfrm>
        </p:grpSpPr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395280" y="4076640"/>
              <a:ext cx="3816360" cy="25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95280" y="5300640"/>
              <a:ext cx="180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Comic Sans MS"/>
                </a:rPr>
                <a:t>Webbed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feet for swimm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12:07:38Z</dcterms:created>
  <dc:creator>Sammy</dc:creator>
  <dc:description/>
  <dc:language>en-US</dc:language>
  <cp:lastModifiedBy>Sammy</cp:lastModifiedBy>
  <dcterms:modified xsi:type="dcterms:W3CDTF">2002-04-18T18:57:54Z</dcterms:modified>
  <cp:revision>4</cp:revision>
  <dc:subject/>
  <dc:title>Animals and their habitats</dc:title>
</cp:coreProperties>
</file>